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E12-D7D7-4250-AE03-0AD06B77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D23-335C-4CF8-8A3C-6B1630DE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739-AB2A-4508-890A-2D4A7E75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928-4561-4F7C-A5E1-9357579E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230-A02C-4A6A-A148-39A9C7E0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8E5-9F0B-468F-A8F3-C16EFD12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8AC-1F63-4472-87EA-3B84ACE4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0D3-5BDF-467C-AE43-FC6F1F7D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132-46C3-4678-9C1A-2CF05288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792-9473-459F-BE2F-4B07EBA0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0A3-09F3-4156-A51D-0381385F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E7B-01AB-4474-97EC-190842A4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E6F5-1B9B-4F19-80E5-63751241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843280" y="2205000"/>
            <a:ext cx="41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Relationshi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"/>
          <p:cNvSpPr/>
          <p:nvPr/>
        </p:nvSpPr>
        <p:spPr>
          <a:xfrm>
            <a:off x="0" y="33577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idpoint of EF is   A   (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0" y="3786120"/>
            <a:ext cx="2071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EF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(3-1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(3+1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0" y="4643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b = m(x -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507204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2 = -2( x -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0" y="5500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2 = -2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14200" y="6000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2x + y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6357960" y="16430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Find Midpoint of F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6715080" y="3643200"/>
            <a:ext cx="1981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FG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(2-3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(6-3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6643800" y="450072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erpendicular m = 3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7072200" y="49291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b = m(x –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991200" y="528624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2.5 = 3( x - 4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981840" y="5643720"/>
            <a:ext cx="21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2.5 = 3x - 1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6929280" y="6000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3x - y 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8"/>
          <p:cNvGrpSpPr/>
          <p:nvPr/>
        </p:nvGrpSpPr>
        <p:grpSpPr>
          <a:xfrm>
            <a:off x="1857240" y="3124080"/>
            <a:ext cx="4876920" cy="3733920"/>
            <a:chOff x="1857240" y="3124080"/>
            <a:chExt cx="4876920" cy="3733920"/>
          </a:xfrm>
        </p:grpSpPr>
        <p:sp>
          <p:nvSpPr>
            <p:cNvPr id="241" name="Oval 19"/>
            <p:cNvSpPr/>
            <p:nvPr/>
          </p:nvSpPr>
          <p:spPr>
            <a:xfrm>
              <a:off x="2924280" y="3733560"/>
              <a:ext cx="2895480" cy="312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V="1">
              <a:off x="2924280" y="3733560"/>
              <a:ext cx="121896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1"/>
            <p:cNvSpPr/>
            <p:nvPr/>
          </p:nvSpPr>
          <p:spPr>
            <a:xfrm>
              <a:off x="1857240" y="49528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E(-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2"/>
            <p:cNvSpPr/>
            <p:nvPr/>
          </p:nvSpPr>
          <p:spPr>
            <a:xfrm>
              <a:off x="3990960" y="31240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F(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5667480" y="40384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G(6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4"/>
            <p:cNvSpPr/>
            <p:nvPr/>
          </p:nvSpPr>
          <p:spPr>
            <a:xfrm>
              <a:off x="4219560" y="5333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4143240" y="3733560"/>
              <a:ext cx="14479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 flipV="1">
              <a:off x="4371840" y="4114440"/>
              <a:ext cx="5335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 flipH="1" flipV="1">
              <a:off x="3533760" y="4419000"/>
              <a:ext cx="838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8"/>
            <p:cNvSpPr/>
            <p:nvPr/>
          </p:nvSpPr>
          <p:spPr>
            <a:xfrm flipV="1">
              <a:off x="5210280" y="419076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 flipV="1">
              <a:off x="4524480" y="38095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>
              <a:off x="3762360" y="3962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>
              <a:off x="4829040" y="426708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2"/>
            <p:cNvSpPr/>
            <p:nvPr/>
          </p:nvSpPr>
          <p:spPr>
            <a:xfrm flipV="1">
              <a:off x="4981680" y="419076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3"/>
            <p:cNvSpPr/>
            <p:nvPr/>
          </p:nvSpPr>
          <p:spPr>
            <a:xfrm flipH="1" flipV="1">
              <a:off x="3228840" y="46476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4"/>
            <p:cNvSpPr/>
            <p:nvPr/>
          </p:nvSpPr>
          <p:spPr>
            <a:xfrm flipH="1" flipV="1">
              <a:off x="3685680" y="4038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5"/>
            <p:cNvSpPr/>
            <p:nvPr/>
          </p:nvSpPr>
          <p:spPr>
            <a:xfrm flipH="1" flipV="1">
              <a:off x="3152520" y="4723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6"/>
            <p:cNvSpPr/>
            <p:nvPr/>
          </p:nvSpPr>
          <p:spPr>
            <a:xfrm>
              <a:off x="3686040" y="42670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7"/>
            <p:cNvSpPr/>
            <p:nvPr/>
          </p:nvSpPr>
          <p:spPr>
            <a:xfrm flipH="1">
              <a:off x="3686040" y="441936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38"/>
          <p:cNvSpPr/>
          <p:nvPr/>
        </p:nvSpPr>
        <p:spPr>
          <a:xfrm>
            <a:off x="13320" y="4286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erpendicular m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0" y="5716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the equations of the perpendicular bisectors of EF and F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0" y="1643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Find  Midpoint of E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42920" y="192888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 = (-1, 1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 = (3, 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1357200" y="221472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-1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2286000" y="221472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1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4"/>
          <p:cNvSpPr/>
          <p:nvPr/>
        </p:nvSpPr>
        <p:spPr>
          <a:xfrm>
            <a:off x="3143160" y="4143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5715000" y="3071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idpoint of FG  is B   (4.5, 2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5786280" y="1928880"/>
            <a:ext cx="135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  = (3, 3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G = (6,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7286760" y="192888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3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8215200" y="192888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3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9"/>
          <p:cNvSpPr/>
          <p:nvPr/>
        </p:nvSpPr>
        <p:spPr>
          <a:xfrm>
            <a:off x="4857840" y="3714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0"/>
          <p:cNvSpPr/>
          <p:nvPr/>
        </p:nvSpPr>
        <p:spPr>
          <a:xfrm>
            <a:off x="571680" y="6488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1"/>
          <p:cNvSpPr/>
          <p:nvPr/>
        </p:nvSpPr>
        <p:spPr>
          <a:xfrm>
            <a:off x="7500960" y="64882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"/>
          <p:cNvSpPr/>
          <p:nvPr/>
        </p:nvSpPr>
        <p:spPr>
          <a:xfrm>
            <a:off x="0" y="1071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ing where the bisectors meet gives us the centre of the  cir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0" y="18572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928880" y="2214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x + y = 4       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857240" y="26431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3x - y = 11     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1500120" y="3071880"/>
            <a:ext cx="2133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285920" y="31431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5x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2286000" y="3571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x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0" y="42148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ubstituting   x = 3   into 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1928880" y="5143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6 + y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2214720" y="5572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1071720" y="600084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Hence centre of circle at   (3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3"/>
          <p:cNvGrpSpPr/>
          <p:nvPr/>
        </p:nvGrpSpPr>
        <p:grpSpPr>
          <a:xfrm>
            <a:off x="4267080" y="3124080"/>
            <a:ext cx="4876920" cy="3733920"/>
            <a:chOff x="4267080" y="3124080"/>
            <a:chExt cx="4876920" cy="3733920"/>
          </a:xfrm>
        </p:grpSpPr>
        <p:sp>
          <p:nvSpPr>
            <p:cNvPr id="290" name="Oval 14"/>
            <p:cNvSpPr/>
            <p:nvPr/>
          </p:nvSpPr>
          <p:spPr>
            <a:xfrm>
              <a:off x="5334120" y="3733560"/>
              <a:ext cx="2895480" cy="312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5"/>
            <p:cNvSpPr/>
            <p:nvPr/>
          </p:nvSpPr>
          <p:spPr>
            <a:xfrm flipV="1">
              <a:off x="5334120" y="3733560"/>
              <a:ext cx="121896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6"/>
            <p:cNvSpPr/>
            <p:nvPr/>
          </p:nvSpPr>
          <p:spPr>
            <a:xfrm>
              <a:off x="4267080" y="49528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E(-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7"/>
            <p:cNvSpPr/>
            <p:nvPr/>
          </p:nvSpPr>
          <p:spPr>
            <a:xfrm>
              <a:off x="6400800" y="31240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F(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8"/>
            <p:cNvSpPr/>
            <p:nvPr/>
          </p:nvSpPr>
          <p:spPr>
            <a:xfrm>
              <a:off x="8077320" y="40384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G(6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6629400" y="5333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0"/>
            <p:cNvSpPr/>
            <p:nvPr/>
          </p:nvSpPr>
          <p:spPr>
            <a:xfrm>
              <a:off x="6553080" y="3733560"/>
              <a:ext cx="14479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1"/>
            <p:cNvSpPr/>
            <p:nvPr/>
          </p:nvSpPr>
          <p:spPr>
            <a:xfrm flipV="1">
              <a:off x="6781680" y="4114440"/>
              <a:ext cx="5335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2"/>
            <p:cNvSpPr/>
            <p:nvPr/>
          </p:nvSpPr>
          <p:spPr>
            <a:xfrm flipH="1" flipV="1">
              <a:off x="5943600" y="4419000"/>
              <a:ext cx="838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3"/>
            <p:cNvSpPr/>
            <p:nvPr/>
          </p:nvSpPr>
          <p:spPr>
            <a:xfrm flipV="1">
              <a:off x="7620120" y="419076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4"/>
            <p:cNvSpPr/>
            <p:nvPr/>
          </p:nvSpPr>
          <p:spPr>
            <a:xfrm flipV="1">
              <a:off x="6934320" y="38095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5"/>
            <p:cNvSpPr/>
            <p:nvPr/>
          </p:nvSpPr>
          <p:spPr>
            <a:xfrm>
              <a:off x="6172200" y="3962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6"/>
            <p:cNvSpPr/>
            <p:nvPr/>
          </p:nvSpPr>
          <p:spPr>
            <a:xfrm>
              <a:off x="7238880" y="426708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7"/>
            <p:cNvSpPr/>
            <p:nvPr/>
          </p:nvSpPr>
          <p:spPr>
            <a:xfrm flipV="1">
              <a:off x="7391520" y="419076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8"/>
            <p:cNvSpPr/>
            <p:nvPr/>
          </p:nvSpPr>
          <p:spPr>
            <a:xfrm flipH="1" flipV="1">
              <a:off x="5638680" y="46476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 flipH="1" flipV="1">
              <a:off x="6095520" y="4038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 flipH="1" flipV="1">
              <a:off x="5562360" y="4723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6095880" y="42670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 flipH="1">
              <a:off x="6095880" y="441936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1933920" y="471492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x + y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70BF-144B-4862-87FE-832A0C06AF40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ounded Rectangle 7"/>
          <p:cNvSpPr/>
          <p:nvPr/>
        </p:nvSpPr>
        <p:spPr>
          <a:xfrm>
            <a:off x="1071720" y="1785960"/>
            <a:ext cx="7500960" cy="2071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ounded Rectangle 9"/>
          <p:cNvSpPr/>
          <p:nvPr/>
        </p:nvSpPr>
        <p:spPr>
          <a:xfrm>
            <a:off x="1071720" y="4071960"/>
            <a:ext cx="7500960" cy="2071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0"/>
          <p:cNvSpPr/>
          <p:nvPr/>
        </p:nvSpPr>
        <p:spPr>
          <a:xfrm>
            <a:off x="1928880" y="2000160"/>
            <a:ext cx="257184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lass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11  Exercis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5429160" y="1928880"/>
            <a:ext cx="2643120" cy="1739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222268"/>
                </a:solidFill>
                <a:uFillTx/>
                <a:latin typeface="Arial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Page xx  Exercis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Question 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2857680" y="642960"/>
            <a:ext cx="3500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quation of the straigh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rsecting Straight Lines using simultaneous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6"/>
          <p:cNvSpPr/>
          <p:nvPr/>
        </p:nvSpPr>
        <p:spPr>
          <a:xfrm>
            <a:off x="963720" y="1987920"/>
            <a:ext cx="810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nd the equation of the line which passes through the point (-1, 3) and is perpendicular to the line with eq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2"/>
          <p:cNvGraphicFramePr/>
          <p:nvPr/>
        </p:nvGraphicFramePr>
        <p:xfrm>
          <a:off x="6473880" y="2486160"/>
          <a:ext cx="1682640" cy="40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3880" y="2486160"/>
                    <a:ext cx="16826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18"/>
          <p:cNvSpPr/>
          <p:nvPr/>
        </p:nvSpPr>
        <p:spPr>
          <a:xfrm>
            <a:off x="1115280" y="348156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gradient of given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3"/>
          <p:cNvGraphicFramePr/>
          <p:nvPr/>
        </p:nvGraphicFramePr>
        <p:xfrm>
          <a:off x="4116240" y="3484440"/>
          <a:ext cx="4791240" cy="37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6240" y="3484440"/>
                    <a:ext cx="47912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 Box 20"/>
          <p:cNvSpPr/>
          <p:nvPr/>
        </p:nvSpPr>
        <p:spPr>
          <a:xfrm>
            <a:off x="1185480" y="416088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gradient of perpendic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4624560" y="4027320"/>
          <a:ext cx="3747960" cy="62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24560" y="4027320"/>
                    <a:ext cx="3747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22"/>
          <p:cNvSpPr/>
          <p:nvPr/>
        </p:nvSpPr>
        <p:spPr>
          <a:xfrm>
            <a:off x="1113840" y="49579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eq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5"/>
          <p:cNvGraphicFramePr/>
          <p:nvPr/>
        </p:nvGraphicFramePr>
        <p:xfrm>
          <a:off x="3036960" y="4799160"/>
          <a:ext cx="5487840" cy="73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5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36960" y="4799160"/>
                    <a:ext cx="54878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6"/>
          <p:cNvGraphicFramePr/>
          <p:nvPr/>
        </p:nvGraphicFramePr>
        <p:xfrm>
          <a:off x="3946680" y="5896080"/>
          <a:ext cx="1834920" cy="401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46680" y="5896080"/>
                    <a:ext cx="18349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928800"/>
            <a:ext cx="283068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ical Exam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EEC8-52EB-498D-8CE1-B53D82CE5B01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2857680" y="642960"/>
            <a:ext cx="350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quation of the straigh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– b = m (x - 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of the following points do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e on the line 2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 + 5x – 4 =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TPChart"/>
          <p:cNvGraphicFramePr/>
          <p:nvPr/>
        </p:nvGraphicFramePr>
        <p:xfrm>
          <a:off x="4508640" y="1650960"/>
          <a:ext cx="457200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31431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-0.8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-1,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0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2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don’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492360" y="6381720"/>
          <a:ext cx="2494080" cy="274680"/>
        </p:xfrm>
        <a:graphic>
          <a:graphicData uri="http://schemas.openxmlformats.org/drawingml/2006/table">
            <a:tbl>
              <a:tblPr/>
              <a:tblGrid>
                <a:gridCol w="416160"/>
                <a:gridCol w="415800"/>
                <a:gridCol w="415800"/>
                <a:gridCol w="414360"/>
                <a:gridCol w="416160"/>
                <a:gridCol w="41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48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CFlag"/>
            <p:cNvSpPr/>
            <p:nvPr/>
          </p:nvSpPr>
          <p:spPr>
            <a:xfrm>
              <a:off x="368280" y="5905440"/>
              <a:ext cx="1270080" cy="76140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400"/>
                <a:gd name="textAreaBottom" fmla="*/ 662760 h 76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   3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y  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x + 5           2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1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y +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x = 7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   4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508640" y="1650960"/>
          <a:ext cx="4572000" cy="444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28840" y="1571760"/>
            <a:ext cx="28065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s 1 and 2 are perpendic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s 1 and 4 are parall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s 2 and 4 are perpendic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s 2 and 3 are parall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649920" y="6585120"/>
          <a:ext cx="2494080" cy="274320"/>
        </p:xfrm>
        <a:graphic>
          <a:graphicData uri="http://schemas.openxmlformats.org/drawingml/2006/table">
            <a:tbl>
              <a:tblPr/>
              <a:tblGrid>
                <a:gridCol w="416160"/>
                <a:gridCol w="415800"/>
                <a:gridCol w="415800"/>
                <a:gridCol w="414360"/>
                <a:gridCol w="416160"/>
                <a:gridCol w="41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59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CFlag"/>
            <p:cNvSpPr/>
            <p:nvPr/>
          </p:nvSpPr>
          <p:spPr>
            <a:xfrm>
              <a:off x="368280" y="5905440"/>
              <a:ext cx="1270080" cy="76140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400"/>
                <a:gd name="textAreaBottom" fmla="*/ 662760 h 76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traight line has equation 10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y = 3x + 15.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00080" y="1785600"/>
            <a:ext cx="35244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adient is 0.3 and the y intercept is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adient is 3 and the y intercept is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adient is 15 and the y intercept is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radient is 1.5 and the y intercept is 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on’t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649920" y="6585120"/>
          <a:ext cx="2494080" cy="274320"/>
        </p:xfrm>
        <a:graphic>
          <a:graphicData uri="http://schemas.openxmlformats.org/drawingml/2006/table">
            <a:tbl>
              <a:tblPr/>
              <a:tblGrid>
                <a:gridCol w="416160"/>
                <a:gridCol w="415800"/>
                <a:gridCol w="415800"/>
                <a:gridCol w="414360"/>
                <a:gridCol w="416160"/>
                <a:gridCol w="41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70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CFlag"/>
            <p:cNvSpPr/>
            <p:nvPr/>
          </p:nvSpPr>
          <p:spPr>
            <a:xfrm>
              <a:off x="368280" y="5905440"/>
              <a:ext cx="1270080" cy="76140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400"/>
                <a:gd name="textAreaBottom" fmla="*/ 662760 h 76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2E1C-C4C5-4038-A20B-A79A03BD286C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4071960" y="1071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ntersecting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1500120" y="200016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find where two lines meet we can use simultaneous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1500120" y="307188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 this reason it is useful to write the equations in the for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+  B</a:t>
            </a: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=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0" y="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250020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Triangle PQR has vertices P(-3,6) , Q(5,12) &amp; R(5,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30718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media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from Q meets the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al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rom P at point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46432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the equations of the median and alt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50720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Hence find the co-ordinates of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143760" y="30718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raw a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5286240" y="3571920"/>
            <a:ext cx="3714840" cy="2786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5"/>
          <p:cNvGrpSpPr/>
          <p:nvPr/>
        </p:nvGrpSpPr>
        <p:grpSpPr>
          <a:xfrm>
            <a:off x="5286240" y="3714840"/>
            <a:ext cx="3581280" cy="2501640"/>
            <a:chOff x="5286240" y="3714840"/>
            <a:chExt cx="3581280" cy="2501640"/>
          </a:xfrm>
        </p:grpSpPr>
        <p:grpSp>
          <p:nvGrpSpPr>
            <p:cNvPr id="94" name="Group 32"/>
            <p:cNvGrpSpPr/>
            <p:nvPr/>
          </p:nvGrpSpPr>
          <p:grpSpPr>
            <a:xfrm>
              <a:off x="5286240" y="3714840"/>
              <a:ext cx="3581280" cy="2501640"/>
              <a:chOff x="5286240" y="3714840"/>
              <a:chExt cx="3581280" cy="2501640"/>
            </a:xfrm>
          </p:grpSpPr>
          <p:sp>
            <p:nvSpPr>
              <p:cNvPr id="95" name="Line 26"/>
              <p:cNvSpPr/>
              <p:nvPr/>
            </p:nvSpPr>
            <p:spPr>
              <a:xfrm>
                <a:off x="6048000" y="5391000"/>
                <a:ext cx="152424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31"/>
              <p:cNvGrpSpPr/>
              <p:nvPr/>
            </p:nvGrpSpPr>
            <p:grpSpPr>
              <a:xfrm>
                <a:off x="5286240" y="3714840"/>
                <a:ext cx="3581280" cy="2501640"/>
                <a:chOff x="5286240" y="3714840"/>
                <a:chExt cx="3581280" cy="2501640"/>
              </a:xfrm>
            </p:grpSpPr>
            <p:grpSp>
              <p:nvGrpSpPr>
                <p:cNvPr id="97" name="Group 12"/>
                <p:cNvGrpSpPr/>
                <p:nvPr/>
              </p:nvGrpSpPr>
              <p:grpSpPr>
                <a:xfrm>
                  <a:off x="6047640" y="3866760"/>
                  <a:ext cx="1524240" cy="2057040"/>
                  <a:chOff x="6047640" y="3866760"/>
                  <a:chExt cx="1524240" cy="2057040"/>
                </a:xfrm>
              </p:grpSpPr>
              <p:sp>
                <p:nvSpPr>
                  <p:cNvPr id="98" name="Line 9"/>
                  <p:cNvSpPr/>
                  <p:nvPr/>
                </p:nvSpPr>
                <p:spPr>
                  <a:xfrm flipH="1">
                    <a:off x="6047640" y="3866760"/>
                    <a:ext cx="1523880" cy="152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10"/>
                  <p:cNvSpPr/>
                  <p:nvPr/>
                </p:nvSpPr>
                <p:spPr>
                  <a:xfrm>
                    <a:off x="7571880" y="3866760"/>
                    <a:ext cx="0" cy="2057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30"/>
                <p:cNvGrpSpPr/>
                <p:nvPr/>
              </p:nvGrpSpPr>
              <p:grpSpPr>
                <a:xfrm>
                  <a:off x="5286240" y="3714840"/>
                  <a:ext cx="3581280" cy="2501640"/>
                  <a:chOff x="5286240" y="3714840"/>
                  <a:chExt cx="3581280" cy="2501640"/>
                </a:xfrm>
              </p:grpSpPr>
              <p:sp>
                <p:nvSpPr>
                  <p:cNvPr id="101" name="Text Box 17"/>
                  <p:cNvSpPr/>
                  <p:nvPr/>
                </p:nvSpPr>
                <p:spPr>
                  <a:xfrm>
                    <a:off x="5286240" y="478116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(-3,6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Text Box 18"/>
                  <p:cNvSpPr/>
                  <p:nvPr/>
                </p:nvSpPr>
                <p:spPr>
                  <a:xfrm>
                    <a:off x="7572240" y="3714840"/>
                    <a:ext cx="1295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Q(5,1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Text Box 19"/>
                  <p:cNvSpPr/>
                  <p:nvPr/>
                </p:nvSpPr>
                <p:spPr>
                  <a:xfrm>
                    <a:off x="7648200" y="5848200"/>
                    <a:ext cx="114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(5,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Text Box 22"/>
                  <p:cNvSpPr/>
                  <p:nvPr/>
                </p:nvSpPr>
                <p:spPr>
                  <a:xfrm>
                    <a:off x="6581520" y="4933800"/>
                    <a:ext cx="533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23"/>
                  <p:cNvSpPr/>
                  <p:nvPr/>
                </p:nvSpPr>
                <p:spPr>
                  <a:xfrm flipH="1">
                    <a:off x="7114680" y="5695560"/>
                    <a:ext cx="75960" cy="22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24"/>
                  <p:cNvSpPr/>
                  <p:nvPr/>
                </p:nvSpPr>
                <p:spPr>
                  <a:xfrm flipH="1">
                    <a:off x="6428880" y="5466960"/>
                    <a:ext cx="75960" cy="22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8"/>
                  <p:cNvSpPr/>
                  <p:nvPr/>
                </p:nvSpPr>
                <p:spPr>
                  <a:xfrm flipH="1">
                    <a:off x="6809760" y="3866760"/>
                    <a:ext cx="762120" cy="1752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9"/>
                  <p:cNvSpPr/>
                  <p:nvPr/>
                </p:nvSpPr>
                <p:spPr>
                  <a:xfrm>
                    <a:off x="6048000" y="5391000"/>
                    <a:ext cx="1524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9" name="Line 33"/>
            <p:cNvSpPr/>
            <p:nvPr/>
          </p:nvSpPr>
          <p:spPr>
            <a:xfrm flipH="1">
              <a:off x="7419600" y="5162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4"/>
            <p:cNvSpPr/>
            <p:nvPr/>
          </p:nvSpPr>
          <p:spPr>
            <a:xfrm flipV="1">
              <a:off x="7419600" y="516240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5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590F-72A4-448E-81FE-9ABE0663C769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0"/>
          <p:cNvSpPr/>
          <p:nvPr/>
        </p:nvSpPr>
        <p:spPr>
          <a:xfrm>
            <a:off x="0" y="1071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3"/>
          <p:cNvSpPr/>
          <p:nvPr/>
        </p:nvSpPr>
        <p:spPr>
          <a:xfrm>
            <a:off x="3571920" y="357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ntersecting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6"/>
          <p:cNvSpPr/>
          <p:nvPr/>
        </p:nvSpPr>
        <p:spPr>
          <a:xfrm>
            <a:off x="5715000" y="3571920"/>
            <a:ext cx="3429000" cy="2786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278604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 = (-3, 6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R = (5, 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1,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928960" y="2214720"/>
            <a:ext cx="385776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Gradient of median QK  =  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(12 - 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                                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(5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QK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3580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b = m(x -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929280" y="2143080"/>
            <a:ext cx="20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4 = 2(x -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7358040" y="2500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4 =  2x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7215120" y="285768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2x - y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0" y="5214960"/>
            <a:ext cx="20718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QR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(12 - 2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(5 - 5)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GB" sz="18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un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0" y="6072120"/>
            <a:ext cx="3381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K  i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571920" y="550080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b = m( x -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429000" y="578628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6 =  0(x +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3714840" y="61437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- 6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071960" y="6488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y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2"/>
          <p:cNvGrpSpPr/>
          <p:nvPr/>
        </p:nvGrpSpPr>
        <p:grpSpPr>
          <a:xfrm>
            <a:off x="5715000" y="3714840"/>
            <a:ext cx="3581280" cy="2543760"/>
            <a:chOff x="5715000" y="3714840"/>
            <a:chExt cx="3581280" cy="2543760"/>
          </a:xfrm>
        </p:grpSpPr>
        <p:grpSp>
          <p:nvGrpSpPr>
            <p:cNvPr id="132" name="Group 15"/>
            <p:cNvGrpSpPr/>
            <p:nvPr/>
          </p:nvGrpSpPr>
          <p:grpSpPr>
            <a:xfrm>
              <a:off x="5715000" y="3714840"/>
              <a:ext cx="3581280" cy="2543760"/>
              <a:chOff x="5715000" y="3714840"/>
              <a:chExt cx="3581280" cy="2543760"/>
            </a:xfrm>
          </p:grpSpPr>
          <p:sp>
            <p:nvSpPr>
              <p:cNvPr id="133" name="Line 16"/>
              <p:cNvSpPr/>
              <p:nvPr/>
            </p:nvSpPr>
            <p:spPr>
              <a:xfrm>
                <a:off x="6476760" y="5424840"/>
                <a:ext cx="1524240" cy="54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17"/>
              <p:cNvGrpSpPr/>
              <p:nvPr/>
            </p:nvGrpSpPr>
            <p:grpSpPr>
              <a:xfrm>
                <a:off x="5715000" y="3714840"/>
                <a:ext cx="3581280" cy="2543760"/>
                <a:chOff x="5715000" y="3714840"/>
                <a:chExt cx="3581280" cy="2543760"/>
              </a:xfrm>
            </p:grpSpPr>
            <p:grpSp>
              <p:nvGrpSpPr>
                <p:cNvPr id="135" name="Group 18"/>
                <p:cNvGrpSpPr/>
                <p:nvPr/>
              </p:nvGrpSpPr>
              <p:grpSpPr>
                <a:xfrm>
                  <a:off x="6476400" y="3870000"/>
                  <a:ext cx="1524240" cy="2097720"/>
                  <a:chOff x="6476400" y="3870000"/>
                  <a:chExt cx="1524240" cy="2097720"/>
                </a:xfrm>
              </p:grpSpPr>
              <p:sp>
                <p:nvSpPr>
                  <p:cNvPr id="136" name="Line 19"/>
                  <p:cNvSpPr/>
                  <p:nvPr/>
                </p:nvSpPr>
                <p:spPr>
                  <a:xfrm flipH="1">
                    <a:off x="6476400" y="3870000"/>
                    <a:ext cx="1523880" cy="155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Line 20"/>
                  <p:cNvSpPr/>
                  <p:nvPr/>
                </p:nvSpPr>
                <p:spPr>
                  <a:xfrm>
                    <a:off x="8000640" y="3870000"/>
                    <a:ext cx="0" cy="2097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1"/>
                <p:cNvGrpSpPr/>
                <p:nvPr/>
              </p:nvGrpSpPr>
              <p:grpSpPr>
                <a:xfrm>
                  <a:off x="5715000" y="3714840"/>
                  <a:ext cx="3581280" cy="2543760"/>
                  <a:chOff x="5715000" y="3714840"/>
                  <a:chExt cx="3581280" cy="2543760"/>
                </a:xfrm>
              </p:grpSpPr>
              <p:sp>
                <p:nvSpPr>
                  <p:cNvPr id="139" name="Text Box 23"/>
                  <p:cNvSpPr/>
                  <p:nvPr/>
                </p:nvSpPr>
                <p:spPr>
                  <a:xfrm>
                    <a:off x="8001000" y="3714840"/>
                    <a:ext cx="1295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Q(5,1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Text Box 25"/>
                  <p:cNvSpPr/>
                  <p:nvPr/>
                </p:nvSpPr>
                <p:spPr>
                  <a:xfrm>
                    <a:off x="7010280" y="4957920"/>
                    <a:ext cx="533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26"/>
                  <p:cNvSpPr/>
                  <p:nvPr/>
                </p:nvSpPr>
                <p:spPr>
                  <a:xfrm flipH="1">
                    <a:off x="7543440" y="5734800"/>
                    <a:ext cx="75960" cy="23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27"/>
                  <p:cNvSpPr/>
                  <p:nvPr/>
                </p:nvSpPr>
                <p:spPr>
                  <a:xfrm flipH="1">
                    <a:off x="6857640" y="5501880"/>
                    <a:ext cx="75960" cy="23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28"/>
                  <p:cNvSpPr/>
                  <p:nvPr/>
                </p:nvSpPr>
                <p:spPr>
                  <a:xfrm flipH="1">
                    <a:off x="7238520" y="3870000"/>
                    <a:ext cx="762120" cy="1787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29"/>
                  <p:cNvSpPr/>
                  <p:nvPr/>
                </p:nvSpPr>
                <p:spPr>
                  <a:xfrm>
                    <a:off x="6476760" y="5424120"/>
                    <a:ext cx="1524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Text Box 22"/>
                  <p:cNvSpPr/>
                  <p:nvPr/>
                </p:nvSpPr>
                <p:spPr>
                  <a:xfrm>
                    <a:off x="5715000" y="48024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(-3,6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Text Box 24"/>
                  <p:cNvSpPr/>
                  <p:nvPr/>
                </p:nvSpPr>
                <p:spPr>
                  <a:xfrm>
                    <a:off x="8076960" y="5890320"/>
                    <a:ext cx="114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(5,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7" name="Line 30"/>
            <p:cNvSpPr/>
            <p:nvPr/>
          </p:nvSpPr>
          <p:spPr>
            <a:xfrm flipH="1">
              <a:off x="7772040" y="5191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1"/>
            <p:cNvSpPr/>
            <p:nvPr/>
          </p:nvSpPr>
          <p:spPr>
            <a:xfrm flipV="1">
              <a:off x="7772400" y="5191200"/>
              <a:ext cx="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3643200" y="2858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ntersecting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429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Triangle PQR has vertices P(-3,6) , Q(5,12) &amp; R(5,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92880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the equations of the median and alt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17146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To find the equation of the median Q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1"/>
          <p:cNvSpPr/>
          <p:nvPr/>
        </p:nvSpPr>
        <p:spPr>
          <a:xfrm>
            <a:off x="0" y="2214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the midpoint of 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285920" y="278604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-3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2214720" y="278604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6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4"/>
          <p:cNvSpPr/>
          <p:nvPr/>
        </p:nvSpPr>
        <p:spPr>
          <a:xfrm>
            <a:off x="0" y="3929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idpoint of PR , K, is (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450072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To find the equation of the altitude P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48578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gradient Q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0" y="178596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To find the point of intersection of  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928960" y="2214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x - y = -2       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429000" y="257184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= 6        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914400" y="29718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ubstitute   y = 6 in the top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990720" y="35812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- 6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971800" y="4038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276720" y="45720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i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057400" y="5257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Hence K is the point  (2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5429160" y="3857760"/>
            <a:ext cx="3714840" cy="25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5562720" y="3857760"/>
            <a:ext cx="3581280" cy="2502000"/>
            <a:chOff x="5562720" y="3857760"/>
            <a:chExt cx="3581280" cy="2502000"/>
          </a:xfrm>
        </p:grpSpPr>
        <p:grpSp>
          <p:nvGrpSpPr>
            <p:cNvPr id="174" name="Group 11"/>
            <p:cNvGrpSpPr/>
            <p:nvPr/>
          </p:nvGrpSpPr>
          <p:grpSpPr>
            <a:xfrm>
              <a:off x="5562720" y="3857760"/>
              <a:ext cx="3581280" cy="2502000"/>
              <a:chOff x="5562720" y="3857760"/>
              <a:chExt cx="3581280" cy="2502000"/>
            </a:xfrm>
          </p:grpSpPr>
          <p:sp>
            <p:nvSpPr>
              <p:cNvPr id="175" name="Line 12"/>
              <p:cNvSpPr/>
              <p:nvPr/>
            </p:nvSpPr>
            <p:spPr>
              <a:xfrm>
                <a:off x="6324480" y="5534280"/>
                <a:ext cx="152424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Group 13"/>
              <p:cNvGrpSpPr/>
              <p:nvPr/>
            </p:nvGrpSpPr>
            <p:grpSpPr>
              <a:xfrm>
                <a:off x="5562720" y="3857760"/>
                <a:ext cx="3581280" cy="2502000"/>
                <a:chOff x="5562720" y="3857760"/>
                <a:chExt cx="3581280" cy="2502000"/>
              </a:xfrm>
            </p:grpSpPr>
            <p:grpSp>
              <p:nvGrpSpPr>
                <p:cNvPr id="177" name="Group 14"/>
                <p:cNvGrpSpPr/>
                <p:nvPr/>
              </p:nvGrpSpPr>
              <p:grpSpPr>
                <a:xfrm>
                  <a:off x="6324120" y="4010040"/>
                  <a:ext cx="1533960" cy="2086200"/>
                  <a:chOff x="6324120" y="4010040"/>
                  <a:chExt cx="1533960" cy="2086200"/>
                </a:xfrm>
              </p:grpSpPr>
              <p:sp>
                <p:nvSpPr>
                  <p:cNvPr id="178" name="Line 15"/>
                  <p:cNvSpPr/>
                  <p:nvPr/>
                </p:nvSpPr>
                <p:spPr>
                  <a:xfrm flipH="1">
                    <a:off x="6324120" y="4010040"/>
                    <a:ext cx="1523880" cy="1524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6"/>
                  <p:cNvSpPr/>
                  <p:nvPr/>
                </p:nvSpPr>
                <p:spPr>
                  <a:xfrm>
                    <a:off x="7848360" y="4010040"/>
                    <a:ext cx="9720" cy="2086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7"/>
                <p:cNvGrpSpPr/>
                <p:nvPr/>
              </p:nvGrpSpPr>
              <p:grpSpPr>
                <a:xfrm>
                  <a:off x="5562720" y="3857760"/>
                  <a:ext cx="3581280" cy="2502000"/>
                  <a:chOff x="5562720" y="3857760"/>
                  <a:chExt cx="3581280" cy="2502000"/>
                </a:xfrm>
              </p:grpSpPr>
              <p:sp>
                <p:nvSpPr>
                  <p:cNvPr id="181" name="Text Box 18"/>
                  <p:cNvSpPr/>
                  <p:nvPr/>
                </p:nvSpPr>
                <p:spPr>
                  <a:xfrm>
                    <a:off x="5562720" y="492444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(-3,6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Text Box 19"/>
                  <p:cNvSpPr/>
                  <p:nvPr/>
                </p:nvSpPr>
                <p:spPr>
                  <a:xfrm>
                    <a:off x="7848720" y="3857760"/>
                    <a:ext cx="1295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Q(5,1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Text Box 20"/>
                  <p:cNvSpPr/>
                  <p:nvPr/>
                </p:nvSpPr>
                <p:spPr>
                  <a:xfrm>
                    <a:off x="7924680" y="5991480"/>
                    <a:ext cx="114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(5,2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Text Box 21"/>
                  <p:cNvSpPr/>
                  <p:nvPr/>
                </p:nvSpPr>
                <p:spPr>
                  <a:xfrm>
                    <a:off x="6858000" y="5077080"/>
                    <a:ext cx="533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2"/>
                  <p:cNvSpPr/>
                  <p:nvPr/>
                </p:nvSpPr>
                <p:spPr>
                  <a:xfrm flipH="1">
                    <a:off x="7391160" y="5838840"/>
                    <a:ext cx="7596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3"/>
                  <p:cNvSpPr/>
                  <p:nvPr/>
                </p:nvSpPr>
                <p:spPr>
                  <a:xfrm flipH="1">
                    <a:off x="6705360" y="5610240"/>
                    <a:ext cx="7596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4"/>
                  <p:cNvSpPr/>
                  <p:nvPr/>
                </p:nvSpPr>
                <p:spPr>
                  <a:xfrm flipH="1">
                    <a:off x="7086240" y="4010040"/>
                    <a:ext cx="762120" cy="1752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5"/>
                  <p:cNvSpPr/>
                  <p:nvPr/>
                </p:nvSpPr>
                <p:spPr>
                  <a:xfrm>
                    <a:off x="6357960" y="5524560"/>
                    <a:ext cx="1523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9" name="Line 26"/>
            <p:cNvSpPr/>
            <p:nvPr/>
          </p:nvSpPr>
          <p:spPr>
            <a:xfrm flipH="1">
              <a:off x="7619760" y="5305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V="1">
              <a:off x="7620120" y="5304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2"/>
          <p:cNvSpPr/>
          <p:nvPr/>
        </p:nvSpPr>
        <p:spPr>
          <a:xfrm>
            <a:off x="0" y="1071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ntersecting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93BD-7806-4A05-8FBF-F2414AAA9880}" type="datetime2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715080" y="655308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www.chmaths.wikispac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0" y="10717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19288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The points E(-1,1), F(3,3) and G(6,2) all lie on the circumference of a circl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0" y="2500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Find the equations of the perpendicular bisectors of EF and F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0" y="300024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Hence find the co-ordinates of the centre of the circle,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0" y="40719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Diagram will be something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0"/>
          <p:cNvGrpSpPr/>
          <p:nvPr/>
        </p:nvGrpSpPr>
        <p:grpSpPr>
          <a:xfrm>
            <a:off x="4143240" y="2928960"/>
            <a:ext cx="4876920" cy="3733920"/>
            <a:chOff x="4143240" y="2928960"/>
            <a:chExt cx="4876920" cy="3733920"/>
          </a:xfrm>
        </p:grpSpPr>
        <p:sp>
          <p:nvSpPr>
            <p:cNvPr id="204" name="Oval 7"/>
            <p:cNvSpPr/>
            <p:nvPr/>
          </p:nvSpPr>
          <p:spPr>
            <a:xfrm>
              <a:off x="5210280" y="3538440"/>
              <a:ext cx="2895480" cy="3124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 flipV="1">
              <a:off x="5210280" y="3538440"/>
              <a:ext cx="121896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8"/>
            <p:cNvSpPr/>
            <p:nvPr/>
          </p:nvSpPr>
          <p:spPr>
            <a:xfrm>
              <a:off x="4143240" y="47577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E(-1,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1"/>
            <p:cNvSpPr/>
            <p:nvPr/>
          </p:nvSpPr>
          <p:spPr>
            <a:xfrm>
              <a:off x="6276960" y="292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F(3,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2"/>
            <p:cNvSpPr/>
            <p:nvPr/>
          </p:nvSpPr>
          <p:spPr>
            <a:xfrm>
              <a:off x="7953480" y="3843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G(6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9"/>
            <p:cNvSpPr/>
            <p:nvPr/>
          </p:nvSpPr>
          <p:spPr>
            <a:xfrm>
              <a:off x="6505560" y="5138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0"/>
            <p:cNvSpPr/>
            <p:nvPr/>
          </p:nvSpPr>
          <p:spPr>
            <a:xfrm>
              <a:off x="6429240" y="3538440"/>
              <a:ext cx="14479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1"/>
            <p:cNvSpPr/>
            <p:nvPr/>
          </p:nvSpPr>
          <p:spPr>
            <a:xfrm flipV="1">
              <a:off x="6657840" y="3919320"/>
              <a:ext cx="5335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2"/>
            <p:cNvSpPr/>
            <p:nvPr/>
          </p:nvSpPr>
          <p:spPr>
            <a:xfrm flipH="1" flipV="1">
              <a:off x="5819760" y="4223880"/>
              <a:ext cx="838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3"/>
            <p:cNvSpPr/>
            <p:nvPr/>
          </p:nvSpPr>
          <p:spPr>
            <a:xfrm flipV="1">
              <a:off x="7496280" y="399564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4"/>
            <p:cNvSpPr/>
            <p:nvPr/>
          </p:nvSpPr>
          <p:spPr>
            <a:xfrm flipV="1">
              <a:off x="6810480" y="361440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5"/>
            <p:cNvSpPr/>
            <p:nvPr/>
          </p:nvSpPr>
          <p:spPr>
            <a:xfrm>
              <a:off x="6048360" y="3767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6"/>
            <p:cNvSpPr/>
            <p:nvPr/>
          </p:nvSpPr>
          <p:spPr>
            <a:xfrm>
              <a:off x="7115040" y="407196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8"/>
            <p:cNvSpPr/>
            <p:nvPr/>
          </p:nvSpPr>
          <p:spPr>
            <a:xfrm flipV="1">
              <a:off x="7267680" y="399564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0"/>
            <p:cNvSpPr/>
            <p:nvPr/>
          </p:nvSpPr>
          <p:spPr>
            <a:xfrm flipH="1" flipV="1">
              <a:off x="5514840" y="44524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1"/>
            <p:cNvSpPr/>
            <p:nvPr/>
          </p:nvSpPr>
          <p:spPr>
            <a:xfrm flipH="1" flipV="1">
              <a:off x="5971680" y="38430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4"/>
            <p:cNvSpPr/>
            <p:nvPr/>
          </p:nvSpPr>
          <p:spPr>
            <a:xfrm flipH="1" flipV="1">
              <a:off x="5438520" y="4528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46"/>
            <p:cNvSpPr/>
            <p:nvPr/>
          </p:nvSpPr>
          <p:spPr>
            <a:xfrm>
              <a:off x="5972040" y="40719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 flipH="1">
              <a:off x="5972040" y="422424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11"/>
          <p:cNvSpPr/>
          <p:nvPr/>
        </p:nvSpPr>
        <p:spPr>
          <a:xfrm>
            <a:off x="0" y="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3508200" y="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9f911"/>
                </a:solidFill>
                <a:latin typeface="Comic Sans MS"/>
              </a:rPr>
              <a:t>Linea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7053120" y="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 1   Outco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1:05:03Z</dcterms:created>
  <dc:creator>EST</dc:creator>
  <dc:description/>
  <dc:language>en-US</dc:language>
  <cp:lastModifiedBy>Caroline</cp:lastModifiedBy>
  <dcterms:modified xsi:type="dcterms:W3CDTF">2009-06-16T22:01:28Z</dcterms:modified>
  <cp:revision>65</cp:revision>
  <dc:subject/>
  <dc:title>Slide 1</dc:title>
</cp:coreProperties>
</file>